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727-C4EE-42AE-8938-D8C989A3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CE4-B080-4852-8529-4C3FA892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5D9-8762-435E-9018-C3225554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4A3-59C5-4665-A9CA-E6CB3240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2583-1794-4AF3-9D0F-F216B4AF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E427-11A3-4C92-88F6-585FD38E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F0D3-1E4B-4B22-9C0F-B9CD8C6C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B21B-8AA5-4062-B37D-4A498036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09CD-A853-4DAA-B1A4-0AF838B9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3320-C6C8-4CC8-AF95-74FB67AF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E964-EC97-46C5-803A-ACA71E53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FD1-5EFB-47B5-8C79-C7754644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37A9-B2E9-472F-B9AB-FE0068D2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A048-6713-4544-815A-7C586D3D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6EC3-69B4-405C-A32A-0A84F4EE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43F4-2257-47C1-B8AA-2CFE4045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277D-5249-4A97-880A-1A80D369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EC9-3017-4111-9D42-D2ADCFB8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B71-6FBE-48C8-909F-163C411C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0AD-0897-4F7D-8E6B-50EF3D49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CB6-717F-4602-89E5-F14FDE6E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B25-A200-40AC-B54F-9B904E76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647-D97A-496D-9729-760FD87D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D92-4250-4638-8910-7A6ADAD6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AF64-E7B9-491E-8F47-3E9E5BDDCB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C464-DFE5-4750-AA45-1171B7D993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IMGP161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Coa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Petroleum_cm05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92280"/>
            <a:ext cx="7772400" cy="163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олезные ископаемы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556000" y="480528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р вокруг нас 3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лана Евгеньевна Мартусо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начальных классов МОУСОШ №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Горючее           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0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ыпуч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ердое           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1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Легче 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жидкость.        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2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азообраз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Тяжелее воды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3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елого цве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ерного цвета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4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пособно плав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6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того цвета 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5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ластич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7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упкое      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6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лохо пропускает в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8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меет запах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7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оричневого или белого цвет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9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Хорошо пропускает в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Вариа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менный уголь: 1,4,5,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сок: 2,4,6,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 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фть: 1,3,8,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ина: 4, 15,16,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езные ископаем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и людей, добывающих полезные ископаем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ь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режно относится к природ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ономно использовать богатства нашей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ранит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Основные свойств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ернистый, твердый и проч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спользовани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ельство фундаментов зданий, набережных, дорог, памятников; отделка станций мет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Использование известняка в строительств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4149720"/>
            <a:ext cx="3514680" cy="25192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Известня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Основные свойств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ого, серого или желтого цвета; если капнуть капельку кислоты – шипит(выделяет газ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спользовани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ельство, мел, мрам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ин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Основные свойств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чень мелка смесь частиц бурого, желтого, белого и других цве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спользовани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рпич, посу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Угол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76960" y="3924360"/>
            <a:ext cx="2867040" cy="29336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аменный угол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Основные свойств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ного цвета, твердый, но хрупкий, горю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спользовани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опление жилых помещений, кокс-краски, лекарства, пластмассы,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Нефт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Основные свойств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дкость темного цвета, с запахом бензина, горюч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спользовани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еросин, бензин, смазочные масла, вазелин, лекарства, мыло, тенический спир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Неф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189000"/>
            <a:ext cx="1714320" cy="2095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Нефтяные вышки в Лос-Анджелесе (1896)"/>
          <p:cNvPicPr/>
          <p:nvPr/>
        </p:nvPicPr>
        <p:blipFill>
          <a:blip r:embed="rId3"/>
          <a:stretch/>
        </p:blipFill>
        <p:spPr>
          <a:xfrm>
            <a:off x="5580000" y="5013360"/>
            <a:ext cx="23814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Железная ру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Основные свойств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ного цвета, твердое, плотное вещество, притягивает металлические предм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спользовани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ы, железнодорожные рельсы, вагоны, ножн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есо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Основные свойств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виде крупинок, сыпуч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спользовани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роги, стек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Дюны в Марокко"/>
          <p:cNvPicPr/>
          <p:nvPr/>
        </p:nvPicPr>
        <p:blipFill>
          <a:blip r:embed="rId1"/>
          <a:stretch/>
        </p:blipFill>
        <p:spPr>
          <a:xfrm>
            <a:off x="5148360" y="3500280"/>
            <a:ext cx="31687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8:37:01Z</dcterms:created>
  <dc:creator>USER</dc:creator>
  <dc:description/>
  <dc:language>en-US</dc:language>
  <cp:lastModifiedBy>Owner</cp:lastModifiedBy>
  <dcterms:modified xsi:type="dcterms:W3CDTF">2012-08-17T14:05:20Z</dcterms:modified>
  <cp:revision>5</cp:revision>
  <dc:subject/>
  <dc:title>Полезные ископаемые</dc:title>
</cp:coreProperties>
</file>